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0C5A-59C4-46FE-8BE2-55A17C38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EAF0-8C9C-456E-93DA-B6CC7ABC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716-7B4A-4EAB-8EB6-2F2C13AD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CABD-42DE-46A3-B8E5-81CCDA58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D8B3-FA0D-44F1-AD5F-17D78FD1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5010-9119-4BB4-9C28-1BB37363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D88A-BE2E-4A3D-9472-1D1C7D77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E1AB-5942-4263-A52A-0405FAB6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2880-8D3A-4D4A-BD0B-BA4A3ADB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8885-1039-437B-A14C-F51D6072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5A35-6029-423F-BFE2-12BDC73C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F0E1-11F0-46FC-B542-BE16FCB6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0AD3-FA51-4B60-9E77-1199044C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DEFE-E68D-4FA6-A310-A8909EE3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C3A1-30AF-42E7-AC9E-BDF5E6E7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6E0A-6B7C-4D9D-8599-39EBBBE6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6EEC-9DF5-41C8-9D73-4653E1F4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CBCE0-7850-42F7-AD30-A304A91B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25A53-AD01-4079-B098-0235BE8B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C1828-7D5F-4914-BDA4-2C4E2172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4B595-96FB-469F-85BC-AC048796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F6191-2D36-46A2-82A7-E4D4FD82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8BCB-DE0F-49ED-B310-D8F4A7B2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19DB1-9349-4F79-B037-0CF0927A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841C1-EC03-4D47-9E4B-1B7F5B67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03E5E-A6E9-47F3-B734-1F65C67C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65DFE-ED46-411E-912C-6562FDFF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848C9-1061-4600-9FD7-5AA757AD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2D489-11A5-4572-AEF6-A535A389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5F65D-1852-4658-8F69-4676509F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AA568-2B80-4581-837C-82DE1844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CE482-702D-4FEE-B5DA-2C766F83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14901-6DBD-4826-BF4B-B155D1BC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27CD-E2A4-4229-A8ED-475E387F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1CBF8-EBF9-45F6-A4D1-C3A8B152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AF306-0C92-48B8-80BD-F3BF71CE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557ED-9F30-4D2D-9824-4A6DB86A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0347B-894F-4DA9-9B21-F7044BDE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A6B8E-B286-4DD5-8FBA-63D4CE8B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EE92B-8437-49D9-898F-08A9390D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45128-51B4-4B5B-A4B3-CB520FFB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0D5A0-B4A9-4F36-A59E-E194D87A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3E68A-2CF8-4D16-A018-5038A88A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4FAFA-A600-4501-8092-F81491BA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0DE3-095E-43AF-A40A-BB7C9842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81064-25BB-4813-A3C0-19CAEB5B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12AD6-96C3-4A01-AD57-BF67B83C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9A018-709F-49ED-943C-CDD49880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DF62F-0698-4D01-B530-DD7E7574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2C8CA-0F56-4EFF-BDA8-10EFB450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98951-BDE6-4AD1-B0F2-154BF061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AF200-790B-40FA-9395-F16A1065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243B2-749C-4587-8C3A-2E6A5257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9F3FD-4BC0-40FE-AC9E-1FBB4FF9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30F5A-BD08-4184-9DDE-CD64472A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E263-14FD-4613-B281-9ACD4EE6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A91E8-BA2A-45C5-B48E-4D672F31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A07-F6C4-44C2-ABFA-B6183C96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0180-3AD5-4652-A3EA-7915BA53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8A9A-19C9-43FD-8CF0-DAF3B62B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1991-4244-4F44-91E1-706B2A6D6BF2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84A3-D702-4E2C-99A1-A581E8FA8C6E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BE8F-164A-4F89-82A9-6A4822BA20A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DA7E-AF36-47FB-A687-5EFC2EA40CE9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F80F-D1C3-4940-B8C5-8C24FEF552C1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16320" y="530280"/>
            <a:ext cx="561960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1760760" cy="1524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3"/>
          <a:stretch/>
        </p:blipFill>
        <p:spPr>
          <a:xfrm>
            <a:off x="625320" y="2111400"/>
            <a:ext cx="1271880" cy="2125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4"/>
          <a:stretch/>
        </p:blipFill>
        <p:spPr>
          <a:xfrm>
            <a:off x="0" y="4680000"/>
            <a:ext cx="2676600" cy="2003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"/>
          <p:cNvPicPr/>
          <p:nvPr/>
        </p:nvPicPr>
        <p:blipFill>
          <a:blip r:embed="rId5"/>
          <a:stretch/>
        </p:blipFill>
        <p:spPr>
          <a:xfrm>
            <a:off x="4572000" y="3581280"/>
            <a:ext cx="2371680" cy="2546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바탕"/>
                <a:ea typeface="바탕"/>
              </a:rPr>
              <a:t>A fad diet is a weight loss program or aid that promises dramatic results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바탕"/>
                <a:ea typeface="바탕"/>
              </a:rPr>
              <a:t>They typically do not focus on long term weight los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바탕"/>
                <a:ea typeface="바탕"/>
              </a:rPr>
              <a:t>They are usually not very healthy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2"/>
          <a:stretch/>
        </p:blipFill>
        <p:spPr>
          <a:xfrm>
            <a:off x="2370240" y="4343400"/>
            <a:ext cx="312408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바탕"/>
                <a:ea typeface="바탕"/>
              </a:rPr>
              <a:t>1. The diet is based on drastically reducing calories/promises losing weight fast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바탕"/>
                <a:ea typeface="바탕"/>
              </a:rPr>
              <a:t>2. The diet is based on taking Drops, Pills, Powders or Herb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바탕"/>
                <a:ea typeface="바탕"/>
              </a:rPr>
              <a:t>3. The diet tells you, you can only eat specific foods or foods in certain combinati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바탕"/>
                <a:ea typeface="바탕"/>
              </a:rPr>
              <a:t>4. The diet makes you completely cut out fat, sugars or carbohydrat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바탕"/>
                <a:ea typeface="바탕"/>
              </a:rPr>
              <a:t>5. The diet has you skipping meals, or replaces meals with special drinks or food ba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152424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6. Shows before and after pictur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7. Has testimonials for product from “health experts” or clien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8. Usually costs a lot of mone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9. Promises you can lose weight without giving up fatty foods or without exercis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0. Sounds too good to be tru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c6c6c"/>
                </a:solidFill>
                <a:latin typeface="바탕"/>
                <a:ea typeface="바탕"/>
              </a:rPr>
              <a:t>Controlled if any carbohydrates:</a:t>
            </a: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c6c6c"/>
                </a:solidFill>
                <a:latin typeface="바탕"/>
                <a:ea typeface="바탕"/>
              </a:rPr>
              <a:t>   </a:t>
            </a:r>
            <a:r>
              <a:rPr b="1" lang="en-US" sz="1600" spc="-1" strike="noStrike">
                <a:solidFill>
                  <a:srgbClr val="6c6c6c"/>
                </a:solidFill>
                <a:latin typeface="바탕"/>
                <a:ea typeface="바탕"/>
              </a:rPr>
              <a:t> </a:t>
            </a:r>
            <a:r>
              <a:rPr b="1" lang="en-US" sz="1600" spc="-1" strike="noStrike">
                <a:solidFill>
                  <a:srgbClr val="6c6c6c"/>
                </a:solidFill>
                <a:latin typeface="바탕"/>
                <a:ea typeface="바탕"/>
              </a:rPr>
              <a:t>- </a:t>
            </a:r>
            <a:r>
              <a:rPr b="0" lang="en-US" sz="1600" spc="-1" strike="noStrike">
                <a:solidFill>
                  <a:srgbClr val="6c6c6c"/>
                </a:solidFill>
                <a:latin typeface="바탕"/>
                <a:ea typeface="바탕"/>
              </a:rPr>
              <a:t>Dr. Atkin’s</a:t>
            </a: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High Carbohydrate's/Low f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c6c6c"/>
                </a:solidFill>
                <a:latin typeface="바탕"/>
                <a:ea typeface="바탕"/>
              </a:rPr>
              <a:t>Dr Dean Ornish: Eat More Weigh Less</a:t>
            </a: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Controlled Portion Siz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c6c6c"/>
                </a:solidFill>
                <a:latin typeface="바탕"/>
                <a:ea typeface="바탕"/>
              </a:rPr>
              <a:t>Dr. Shapiro’s Picture Perfect Weight Loss</a:t>
            </a: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Liquid Diet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c6c6c"/>
                </a:solidFill>
                <a:latin typeface="바탕"/>
                <a:ea typeface="바탕"/>
              </a:rPr>
              <a:t>Slim Fast</a:t>
            </a: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Diet Pills or Herbal Supplement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c6c6c"/>
                </a:solidFill>
                <a:latin typeface="바탕"/>
                <a:ea typeface="바탕"/>
              </a:rPr>
              <a:t>Hydroxycut</a:t>
            </a: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Food Combining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c6c6c"/>
                </a:solidFill>
                <a:latin typeface="바탕"/>
                <a:ea typeface="바탕"/>
              </a:rPr>
              <a:t>Suzanne Somers’: Somersizing</a:t>
            </a: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c6c6c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4038480" y="1676520"/>
            <a:ext cx="372132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ake a look at your handout that describes different diets, circle the numbers of the ones you believe are fad diet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2"/>
          <a:stretch/>
        </p:blipFill>
        <p:spPr>
          <a:xfrm>
            <a:off x="2895480" y="3886200"/>
            <a:ext cx="24955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03:16:03Z</dcterms:created>
  <dc:creator>Dell</dc:creator>
  <dc:description/>
  <dc:language>en-US</dc:language>
  <cp:lastModifiedBy>Eliss Herman</cp:lastModifiedBy>
  <dcterms:modified xsi:type="dcterms:W3CDTF">2014-04-08T23:24:52Z</dcterms:modified>
  <cp:revision>10</cp:revision>
  <dc:subject/>
  <dc:title>Fad Diets</dc:title>
</cp:coreProperties>
</file>